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3.wmf" ContentType="image/x-wmf"/>
  <Override PartName="/ppt/media/image22.wmf" ContentType="image/x-wmf"/>
  <Override PartName="/ppt/media/PROJCTOR.WAV" ContentType="audio/x-wav"/>
  <Override PartName="/ppt/media/GUNSHOT.WAV" ContentType="audio/x-wav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DRIVEBY.WAV" ContentType="audio/x-wav"/>
  <Override PartName="/ppt/media/image16.wmf" ContentType="image/x-wmf"/>
  <Override PartName="/ppt/media/image15.wmf" ContentType="image/x-wmf"/>
  <Override PartName="/ppt/media/LASER.WAV" ContentType="audio/x-wav"/>
  <Override PartName="/ppt/media/image14.wmf" ContentType="image/x-wmf"/>
  <Override PartName="/ppt/media/image24.wmf" ContentType="image/x-wmf"/>
  <Override PartName="/ppt/media/CAMERA.WAV" ContentType="audio/x-wav"/>
  <Override PartName="/ppt/media/image1.wmf" ContentType="image/x-wmf"/>
  <Override PartName="/ppt/media/image31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33.wmf" ContentType="image/x-wmf"/>
  <Override PartName="/ppt/media/image25.wmf" ContentType="image/x-wmf"/>
  <Override PartName="/ppt/media/CHIMES.WAV" ContentType="audio/x-wav"/>
  <Override PartName="/ppt/media/image28.wmf" ContentType="image/x-wmf"/>
  <Override PartName="/ppt/media/image30.wmf" ContentType="image/x-wmf"/>
  <Override PartName="/ppt/media/image26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27.wmf" ContentType="image/x-wmf"/>
  <Override PartName="/ppt/media/image34.wmf" ContentType="image/x-wmf"/>
  <Override PartName="/ppt/media/image4.wmf" ContentType="image/x-wmf"/>
  <Override PartName="/ppt/media/image29.wmf" ContentType="image/x-wmf"/>
  <Override PartName="/ppt/media/image40.wmf" ContentType="image/x-wmf"/>
  <Override PartName="/ppt/media/image42.wmf" ContentType="image/x-wmf"/>
  <Override PartName="/ppt/media/image43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37.wmf" ContentType="image/x-wmf"/>
  <Override PartName="/ppt/media/DRUMROLL.WAV" ContentType="audio/x-wav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EXPLODE.WAV" ContentType="audio/x-wav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B29-D2C3-4C60-BDD2-56E6F43C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DAC-B998-4489-B0FF-1C952F94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8AD-9248-4216-8959-CEF2DA94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A567-6728-4889-A521-AD28439E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2164-8875-477E-A466-7E25F9EA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FBD-37ED-4644-B4DF-6A4256C7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BF5-0C88-46FB-B7B5-E59E9685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E7C-6B48-4DCC-AADE-225CB60E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1D3F-E93E-465B-96F3-CD03E434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669-7D9D-483C-AC92-B5B83462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6476-519D-4EC0-8D28-D19C06EA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6D2-7D21-4470-981A-1C627A7B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54EA-C8C9-499B-BDB9-444A37B5C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audio" Target="../media/LASER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DRIVEBY.WAV"/><Relationship Id="rId21" Type="http://schemas.openxmlformats.org/officeDocument/2006/relationships/audio" Target="../media/EXPLODE.WAV"/><Relationship Id="rId22" Type="http://schemas.openxmlformats.org/officeDocument/2006/relationships/audio" Target="../media/DRIVEBY.WAV"/><Relationship Id="rId23" Type="http://schemas.openxmlformats.org/officeDocument/2006/relationships/audio" Target="../media/EXPLODE.WAV"/><Relationship Id="rId24" Type="http://schemas.openxmlformats.org/officeDocument/2006/relationships/audio" Target="../media/GUNSHOT.WAV"/><Relationship Id="rId25" Type="http://schemas.openxmlformats.org/officeDocument/2006/relationships/audio" Target="../media/LASER.WAV"/><Relationship Id="rId26" Type="http://schemas.openxmlformats.org/officeDocument/2006/relationships/audio" Target="../media/CAMERA.WAV"/><Relationship Id="rId27" Type="http://schemas.openxmlformats.org/officeDocument/2006/relationships/audio" Target="../media/GUNSHOT.WAV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audio" Target="../media/PROJCTOR.WAV"/><Relationship Id="rId12" Type="http://schemas.openxmlformats.org/officeDocument/2006/relationships/audio" Target="../media/CHIMES.WAV"/><Relationship Id="rId13" Type="http://schemas.openxmlformats.org/officeDocument/2006/relationships/audio" Target="../media/DRUMROLL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audio" Target="../media/DRUMROLL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expression for the given value of th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193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Evalu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ans replace the variable by a number and work it out using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0880" y="2209680"/>
          <a:ext cx="469908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09680"/>
                    <a:ext cx="46990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066680" y="2819520"/>
          <a:ext cx="185256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819520"/>
                    <a:ext cx="18525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447920" y="3429000"/>
          <a:ext cx="677880" cy="53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429000"/>
                    <a:ext cx="6778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57200" y="4038480"/>
          <a:ext cx="4471920" cy="1393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4038480"/>
                    <a:ext cx="447192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143000" y="5365800"/>
          <a:ext cx="898560" cy="149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5365800"/>
                    <a:ext cx="89856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209680" y="5791320"/>
          <a:ext cx="98136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09680" y="5791320"/>
                    <a:ext cx="981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expression for the given value of th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2193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Evalu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ans replace the variable by a number and work it out using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46240" y="2209680"/>
          <a:ext cx="497016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2209680"/>
                    <a:ext cx="497016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990720" y="2895480"/>
          <a:ext cx="2031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895480"/>
                    <a:ext cx="2031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523880" y="3581280"/>
          <a:ext cx="57168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3581280"/>
                    <a:ext cx="571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22200" y="4376880"/>
          <a:ext cx="4743360" cy="71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2200" y="4376880"/>
                    <a:ext cx="474336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990720" y="5257800"/>
          <a:ext cx="149220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5257800"/>
                    <a:ext cx="14922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468440" y="5867280"/>
          <a:ext cx="482760" cy="64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68440" y="5867280"/>
                    <a:ext cx="4827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expression for the given value of th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2193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Evalu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ans replace the variable by a number and work it out using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04920" y="1981080"/>
          <a:ext cx="479088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47908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914400" y="3200400"/>
          <a:ext cx="1805040" cy="13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200400"/>
                    <a:ext cx="180504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819520" y="3657600"/>
          <a:ext cx="9666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3657600"/>
                    <a:ext cx="966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380880" y="4800600"/>
          <a:ext cx="4246560" cy="58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4800600"/>
                    <a:ext cx="424656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022400" y="5410080"/>
                <a:ext cx="10843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83" name=""/>
          <p:cNvGraphicFramePr/>
          <p:nvPr/>
        </p:nvGraphicFramePr>
        <p:xfrm>
          <a:off x="1106640" y="6210360"/>
          <a:ext cx="86184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06640" y="6210360"/>
                    <a:ext cx="861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371600" y="3429000"/>
          <a:ext cx="1353960" cy="1395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3429000"/>
                    <a:ext cx="135396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 flipV="1">
            <a:off x="914400" y="411480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4114800"/>
          <a:ext cx="355320" cy="536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520" y="4114800"/>
                    <a:ext cx="3553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 flipV="1">
            <a:off x="160020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340000" y="3352680"/>
          <a:ext cx="399960" cy="536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40000" y="3352680"/>
                    <a:ext cx="39996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each using the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imple interest formu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2193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mple Intere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Principle)(Rate)(Time) </a:t>
            </a: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996633"/>
                </a:solidFill>
                <a:latin typeface="Times New Roman"/>
              </a:rPr>
              <a:t>P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838080" y="3352680"/>
                <a:ext cx="52531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295280" y="4191120"/>
                <a:ext cx="2102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98" name=""/>
          <p:cNvGraphicFramePr/>
          <p:nvPr/>
        </p:nvGraphicFramePr>
        <p:xfrm>
          <a:off x="2133720" y="3429000"/>
          <a:ext cx="94284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429000"/>
                    <a:ext cx="9428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0" y="19810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You deposit $250 in a bank account that pays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nual  interest rate of 2%. How much simpl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est will you earn after two yea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43200" y="3429000"/>
          <a:ext cx="11239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3429000"/>
                    <a:ext cx="11239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138640" y="3429000"/>
          <a:ext cx="447840" cy="53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38640" y="3429000"/>
                    <a:ext cx="4478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352680" y="4343400"/>
          <a:ext cx="122256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4343400"/>
                    <a:ext cx="12225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438280" y="5181480"/>
          <a:ext cx="1069920" cy="711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5181480"/>
                    <a:ext cx="10699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each using the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imple interest formu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2193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mple Intere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Principle)(Rate)(Time) </a:t>
            </a: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996633"/>
                </a:solidFill>
                <a:latin typeface="Times New Roman"/>
              </a:rPr>
              <a:t>P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63720" y="3313080"/>
                <a:ext cx="47448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13" name=""/>
          <p:cNvGraphicFramePr/>
          <p:nvPr/>
        </p:nvGraphicFramePr>
        <p:xfrm>
          <a:off x="2133720" y="3429000"/>
          <a:ext cx="94284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429000"/>
                    <a:ext cx="9428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19810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You deposit $140 in a bank account that pays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nual  interest rate of 3.5%. How much simpl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est will you earn after one yea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429000" y="3429000"/>
          <a:ext cx="135576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429000"/>
                    <a:ext cx="135576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183280" y="3429000"/>
          <a:ext cx="357120" cy="53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3280" y="3429000"/>
                    <a:ext cx="3571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447920" y="4191120"/>
          <a:ext cx="142704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4191120"/>
                    <a:ext cx="1427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676520" y="4876920"/>
          <a:ext cx="1536480" cy="711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4876920"/>
                    <a:ext cx="15364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each using the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distance formu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2193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Dista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Rate)(Tim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600200" y="3276720"/>
          <a:ext cx="218268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276720"/>
                    <a:ext cx="218268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733920" y="3352680"/>
          <a:ext cx="1427040" cy="15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352680"/>
                    <a:ext cx="14270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666880" y="3581280"/>
          <a:ext cx="943200" cy="53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581280"/>
                    <a:ext cx="9432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0" y="2514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If you are driving at a constant rate of 60 miles pe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ur, how long will it take you to travel 270 mi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4114800"/>
          <a:ext cx="677880" cy="53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4114800"/>
                    <a:ext cx="677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981080" y="4800600"/>
          <a:ext cx="3071880" cy="15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4800600"/>
                    <a:ext cx="30718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" name=""/>
          <p:cNvGrpSpPr/>
          <p:nvPr/>
        </p:nvGrpSpPr>
        <p:grpSpPr>
          <a:xfrm>
            <a:off x="304920" y="990720"/>
            <a:ext cx="4167000" cy="1395360"/>
            <a:chOff x="304920" y="990720"/>
            <a:chExt cx="4167000" cy="1395360"/>
          </a:xfrm>
        </p:grpSpPr>
        <p:graphicFrame>
          <p:nvGraphicFramePr>
            <p:cNvPr id="139" name=""/>
            <p:cNvGraphicFramePr/>
            <p:nvPr/>
          </p:nvGraphicFramePr>
          <p:xfrm>
            <a:off x="1905120" y="990720"/>
            <a:ext cx="2566800" cy="1395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905120" y="990720"/>
                      <a:ext cx="2566800" cy="13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304920" y="990720"/>
            <a:ext cx="1890720" cy="1395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04920" y="990720"/>
                      <a:ext cx="1890720" cy="13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3" name=""/>
          <p:cNvGrpSpPr/>
          <p:nvPr/>
        </p:nvGrpSpPr>
        <p:grpSpPr>
          <a:xfrm>
            <a:off x="4572000" y="1295280"/>
            <a:ext cx="4343400" cy="901800"/>
            <a:chOff x="4572000" y="1295280"/>
            <a:chExt cx="4343400" cy="901800"/>
          </a:xfrm>
        </p:grpSpPr>
        <p:sp>
          <p:nvSpPr>
            <p:cNvPr id="144" name=""/>
            <p:cNvSpPr/>
            <p:nvPr/>
          </p:nvSpPr>
          <p:spPr>
            <a:xfrm>
              <a:off x="5867280" y="129528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Dista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2200" y="16765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0" y="14479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Time 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600" y="1752480"/>
              <a:ext cx="13716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V="1">
            <a:off x="1981080" y="137124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514600" y="2057040"/>
            <a:ext cx="1066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200040" y="3505320"/>
            <a:ext cx="30492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each using the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distance formu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2193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Dista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Rate)(Tim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76440" y="3276720"/>
          <a:ext cx="223200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3276720"/>
                    <a:ext cx="223200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514600" y="4952880"/>
          <a:ext cx="920880" cy="6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4952880"/>
                    <a:ext cx="9208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532240" y="3581280"/>
          <a:ext cx="1214280" cy="53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32240" y="3581280"/>
                    <a:ext cx="1214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0" y="2514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   Find the average speed for an airplane traveling 210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les in 6 hou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957400" y="4114800"/>
          <a:ext cx="400320" cy="53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57400" y="4114800"/>
                    <a:ext cx="400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276720" y="4876920"/>
          <a:ext cx="4505040" cy="81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4876920"/>
                    <a:ext cx="450504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5" name=""/>
          <p:cNvGrpSpPr/>
          <p:nvPr/>
        </p:nvGrpSpPr>
        <p:grpSpPr>
          <a:xfrm>
            <a:off x="304920" y="990720"/>
            <a:ext cx="4167000" cy="1395360"/>
            <a:chOff x="304920" y="990720"/>
            <a:chExt cx="4167000" cy="1395360"/>
          </a:xfrm>
        </p:grpSpPr>
        <p:graphicFrame>
          <p:nvGraphicFramePr>
            <p:cNvPr id="166" name=""/>
            <p:cNvGraphicFramePr/>
            <p:nvPr/>
          </p:nvGraphicFramePr>
          <p:xfrm>
            <a:off x="1905120" y="990720"/>
            <a:ext cx="2566800" cy="1395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905120" y="990720"/>
                      <a:ext cx="2566800" cy="13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"/>
            <p:cNvGraphicFramePr/>
            <p:nvPr/>
          </p:nvGraphicFramePr>
          <p:xfrm>
            <a:off x="304920" y="990720"/>
            <a:ext cx="1890720" cy="1395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04920" y="990720"/>
                      <a:ext cx="1890720" cy="13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" name=""/>
          <p:cNvGrpSpPr/>
          <p:nvPr/>
        </p:nvGrpSpPr>
        <p:grpSpPr>
          <a:xfrm>
            <a:off x="4572000" y="1295280"/>
            <a:ext cx="4343400" cy="901800"/>
            <a:chOff x="4572000" y="1295280"/>
            <a:chExt cx="4343400" cy="901800"/>
          </a:xfrm>
        </p:grpSpPr>
        <p:sp>
          <p:nvSpPr>
            <p:cNvPr id="171" name=""/>
            <p:cNvSpPr/>
            <p:nvPr/>
          </p:nvSpPr>
          <p:spPr>
            <a:xfrm>
              <a:off x="5867280" y="129528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Dista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72200" y="16765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Ti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0" y="14479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Rate 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43600" y="1752480"/>
              <a:ext cx="13716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V="1">
            <a:off x="2971800" y="137124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514600" y="2057040"/>
            <a:ext cx="1066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2T18:20:39Z</dcterms:created>
  <dc:creator>Don Helms</dc:creator>
  <dc:description/>
  <dc:language>en-US</dc:language>
  <cp:lastModifiedBy>DAMON SKELTON</cp:lastModifiedBy>
  <dcterms:modified xsi:type="dcterms:W3CDTF">2004-09-11T20:23:32Z</dcterms:modified>
  <cp:revision>13</cp:revision>
  <dc:subject/>
  <dc:title>No Slide Title</dc:title>
</cp:coreProperties>
</file>